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83AA-949E-42E9-965B-D775101417A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4B30-3637-4F31-8991-565F2BDE894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75A4-C72B-4E25-AFA2-0447EFE06BB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D6FD-85AC-4D1F-B215-E41287CF9C3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7CE7E-6D30-4AB3-BF68-5F657F25971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85775-C701-4704-8305-63EE4396149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465F0-67A1-4D8C-8BD9-CFC25FCF87D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3807-BC33-48D4-B1DE-0F05F232793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ED14-99A5-488D-8593-33FF01BB64C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68BDC-F4A4-4677-AC2E-FA67E0821E5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47BB3-9124-4A13-8E21-B5C15BFA290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A71E6-E792-4DB3-8D0B-1EAD23ADD60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C1651-7C20-4BD2-B932-3D41D3A218E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02A87-FD93-403A-9126-073DA818276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79FDE-3636-4E74-8DCA-B84CB4ECF0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AB4D0-4A87-4040-8B5D-41DE691E9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22C34-9C43-4B53-9839-11EC6804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BE709-688A-4907-A93B-0D4444589D2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443DE-C60E-4EFC-AE25-16838C6F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0D08D-47AA-47AE-BEC6-64D35C6C9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71539-D85A-4C33-A015-F9FD8E78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C28DC-0A83-45CF-8300-92FBD226E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94DDB-98C6-4393-8DB5-EF0A22BE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C8DDF-7DFA-4675-A35A-C1386528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279E8-6006-4B27-83F0-3EF35045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B21C9-BA14-480B-BCE6-6C4C5866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EBD9-CF5E-43EC-B733-C4338977079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4284720" y="6524640"/>
            <a:ext cx="122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E010-58CA-495E-A7B1-8AB6052AACF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659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4356000" y="6524640"/>
            <a:ext cx="1201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1ED0F-13CF-40F3-9A2F-E4A9795491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88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于胃肠道内尚未吸收的毒物，应尽早给予催吐、洗胃、灌肠、导泻或活性炭吸附等方法清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4572000" y="6524640"/>
            <a:ext cx="115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1DEA-5D95-4E06-A4B1-7892BF5149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4427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77EB-5927-4276-9B05-C254CA3BEBC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0C877-8FC2-4159-B878-08B7CD0B20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（美蓝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471636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B97E-FBE7-4DFF-A6C2-4746A139CD8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4356000" y="6524640"/>
            <a:ext cx="1079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E3A5-204C-454D-8440-B1541BC006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安定、利眠宁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4572000" y="6524640"/>
            <a:ext cx="1008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9CFA-847A-4599-A5FE-E12BABB39FD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23CD5-FEAB-448D-9132-5C90799A82F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D898C-EDC6-4CEB-ABCC-B96F4D92165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6760" y="1412640"/>
            <a:ext cx="86108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F925-59A8-4451-BBD3-EA08066BED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499760"/>
            <a:ext cx="871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E150A-CC19-48D5-B7B7-724814C7F66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1499760"/>
            <a:ext cx="8788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时内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0E2FB-585E-4E1F-BEB9-397AEDB0F7E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499760"/>
            <a:ext cx="8967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3D843-4E13-4802-9C7E-AD5EDDE2AD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38BBB-A88D-441E-91DC-CF059CF419A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线形标注 2 2"/>
          <p:cNvSpPr/>
          <p:nvPr/>
        </p:nvSpPr>
        <p:spPr>
          <a:xfrm>
            <a:off x="3692520" y="1165320"/>
            <a:ext cx="5343480" cy="7570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8361"/>
              <a:gd name="adj6" fmla="val -2556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暂时保护胃黏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线形标注 1 3"/>
          <p:cNvSpPr/>
          <p:nvPr/>
        </p:nvSpPr>
        <p:spPr>
          <a:xfrm>
            <a:off x="3692520" y="1995480"/>
            <a:ext cx="5343480" cy="576360"/>
          </a:xfrm>
          <a:prstGeom prst="borderCallout1">
            <a:avLst>
              <a:gd name="adj1" fmla="val 18750"/>
              <a:gd name="adj2" fmla="val -8333"/>
              <a:gd name="adj3" fmla="val 102564"/>
              <a:gd name="adj4" fmla="val -25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线形标注 1 4"/>
          <p:cNvSpPr/>
          <p:nvPr/>
        </p:nvSpPr>
        <p:spPr>
          <a:xfrm>
            <a:off x="3692520" y="2690640"/>
            <a:ext cx="5343480" cy="1025640"/>
          </a:xfrm>
          <a:prstGeom prst="borderCallout1">
            <a:avLst>
              <a:gd name="adj1" fmla="val 18750"/>
              <a:gd name="adj2" fmla="val -8333"/>
              <a:gd name="adj3" fmla="val 47722"/>
              <a:gd name="adj4" fmla="val -263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线形标注 1 5"/>
          <p:cNvSpPr/>
          <p:nvPr/>
        </p:nvSpPr>
        <p:spPr>
          <a:xfrm>
            <a:off x="3708360" y="3860640"/>
            <a:ext cx="5327640" cy="576360"/>
          </a:xfrm>
          <a:prstGeom prst="borderCallout1">
            <a:avLst>
              <a:gd name="adj1" fmla="val 18750"/>
              <a:gd name="adj2" fmla="val -8333"/>
              <a:gd name="adj3" fmla="val -20291"/>
              <a:gd name="adj4" fmla="val -2573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线形标注 1 6"/>
          <p:cNvSpPr/>
          <p:nvPr/>
        </p:nvSpPr>
        <p:spPr>
          <a:xfrm>
            <a:off x="3708360" y="4653000"/>
            <a:ext cx="5327640" cy="720720"/>
          </a:xfrm>
          <a:prstGeom prst="borderCallout1">
            <a:avLst>
              <a:gd name="adj1" fmla="val 18750"/>
              <a:gd name="adj2" fmla="val -8333"/>
              <a:gd name="adj3" fmla="val -56208"/>
              <a:gd name="adj4" fmla="val -2680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线形标注 1 7"/>
          <p:cNvSpPr/>
          <p:nvPr/>
        </p:nvSpPr>
        <p:spPr>
          <a:xfrm>
            <a:off x="3708360" y="5567400"/>
            <a:ext cx="5316480" cy="828720"/>
          </a:xfrm>
          <a:prstGeom prst="borderCallout1">
            <a:avLst>
              <a:gd name="adj1" fmla="val 18750"/>
              <a:gd name="adj2" fmla="val -8333"/>
              <a:gd name="adj3" fmla="val -79078"/>
              <a:gd name="adj4" fmla="val -3134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83C7-9916-43B2-86C5-7AB4AAF1530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468360" y="907920"/>
            <a:ext cx="4798800" cy="720360"/>
            <a:chOff x="468360" y="907920"/>
            <a:chExt cx="4798800" cy="720360"/>
          </a:xfrm>
        </p:grpSpPr>
        <p:grpSp>
          <p:nvGrpSpPr>
            <p:cNvPr id="210" name="Group 5"/>
            <p:cNvGrpSpPr/>
            <p:nvPr/>
          </p:nvGrpSpPr>
          <p:grpSpPr>
            <a:xfrm>
              <a:off x="468360" y="907920"/>
              <a:ext cx="761400" cy="720360"/>
              <a:chOff x="468360" y="907920"/>
              <a:chExt cx="761400" cy="7203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74480" y="920160"/>
                <a:ext cx="755280" cy="708120"/>
              </a:xfrm>
              <a:prstGeom prst="hexagon">
                <a:avLst>
                  <a:gd name="adj" fmla="val 2666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468360" y="907920"/>
                <a:ext cx="755640" cy="708120"/>
              </a:xfrm>
              <a:prstGeom prst="hexagon">
                <a:avLst>
                  <a:gd name="adj" fmla="val 2667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68360" y="950400"/>
                <a:ext cx="720720" cy="606240"/>
              </a:xfrm>
              <a:prstGeom prst="hexagon">
                <a:avLst>
                  <a:gd name="adj" fmla="val 2666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476360" y="1052280"/>
              <a:ext cx="379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52680" y="96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468360" y="1700280"/>
            <a:ext cx="4462200" cy="664920"/>
            <a:chOff x="468360" y="1700280"/>
            <a:chExt cx="4462200" cy="664920"/>
          </a:xfrm>
        </p:grpSpPr>
        <p:grpSp>
          <p:nvGrpSpPr>
            <p:cNvPr id="218" name="Group 13"/>
            <p:cNvGrpSpPr/>
            <p:nvPr/>
          </p:nvGrpSpPr>
          <p:grpSpPr>
            <a:xfrm>
              <a:off x="468360" y="1700280"/>
              <a:ext cx="811440" cy="664920"/>
              <a:chOff x="468360" y="1700280"/>
              <a:chExt cx="811440" cy="66492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75200" y="171144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468360" y="170028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515880" y="1739880"/>
                <a:ext cx="705960" cy="574560"/>
              </a:xfrm>
              <a:prstGeom prst="hexagon">
                <a:avLst>
                  <a:gd name="adj" fmla="val 3073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81800" y="2276280"/>
              <a:ext cx="38487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2005920" y="177156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76080" y="1750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468360" y="2492280"/>
            <a:ext cx="4537080" cy="665280"/>
            <a:chOff x="468360" y="2492280"/>
            <a:chExt cx="453708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468360" y="2492280"/>
              <a:ext cx="761400" cy="665280"/>
              <a:chOff x="468360" y="2492280"/>
              <a:chExt cx="76140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74480" y="2503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468360" y="2492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512640" y="2531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44360" y="3068640"/>
              <a:ext cx="396108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2150280" y="256392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652680" y="254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468360" y="3284640"/>
            <a:ext cx="4534920" cy="664920"/>
            <a:chOff x="468360" y="3284640"/>
            <a:chExt cx="4534920" cy="664920"/>
          </a:xfrm>
        </p:grpSpPr>
        <p:grpSp>
          <p:nvGrpSpPr>
            <p:cNvPr id="234" name="Group 29"/>
            <p:cNvGrpSpPr/>
            <p:nvPr/>
          </p:nvGrpSpPr>
          <p:grpSpPr>
            <a:xfrm>
              <a:off x="468360" y="3284640"/>
              <a:ext cx="810720" cy="664920"/>
              <a:chOff x="468360" y="3284640"/>
              <a:chExt cx="810720" cy="66492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75200" y="329580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468360" y="328464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515880" y="3324240"/>
                <a:ext cx="672480" cy="574560"/>
              </a:xfrm>
              <a:prstGeom prst="hexagon">
                <a:avLst>
                  <a:gd name="adj" fmla="val 3071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1081440" y="3860640"/>
              <a:ext cx="39218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581840" y="3335040"/>
              <a:ext cx="1954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675720" y="333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468360" y="4076640"/>
            <a:ext cx="4534920" cy="665280"/>
            <a:chOff x="468360" y="4076640"/>
            <a:chExt cx="453492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468360" y="4076640"/>
              <a:ext cx="798120" cy="665280"/>
              <a:chOff x="468360" y="4076640"/>
              <a:chExt cx="79812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74840" y="4087800"/>
                <a:ext cx="791640" cy="654120"/>
              </a:xfrm>
              <a:prstGeom prst="hexagon">
                <a:avLst>
                  <a:gd name="adj" fmla="val 302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468360" y="4076640"/>
                <a:ext cx="792000" cy="654120"/>
              </a:xfrm>
              <a:prstGeom prst="hexagon">
                <a:avLst>
                  <a:gd name="adj" fmla="val 3027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514080" y="4116240"/>
                <a:ext cx="694800" cy="574920"/>
              </a:xfrm>
              <a:prstGeom prst="hexagon">
                <a:avLst>
                  <a:gd name="adj" fmla="val 3022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1072080" y="4653000"/>
              <a:ext cx="39312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564920" y="4148280"/>
              <a:ext cx="1926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669960" y="412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468360" y="4869000"/>
            <a:ext cx="4608360" cy="664920"/>
            <a:chOff x="468360" y="4869000"/>
            <a:chExt cx="4608360" cy="664920"/>
          </a:xfrm>
        </p:grpSpPr>
        <p:grpSp>
          <p:nvGrpSpPr>
            <p:cNvPr id="250" name="Group 45"/>
            <p:cNvGrpSpPr/>
            <p:nvPr/>
          </p:nvGrpSpPr>
          <p:grpSpPr>
            <a:xfrm>
              <a:off x="468360" y="4869000"/>
              <a:ext cx="761400" cy="664920"/>
              <a:chOff x="468360" y="4869000"/>
              <a:chExt cx="761400" cy="66492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74480" y="48801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468360" y="48690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512640" y="49086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4360" y="544500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2255760" y="491940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52680" y="49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矩形 55"/>
          <p:cNvSpPr/>
          <p:nvPr/>
        </p:nvSpPr>
        <p:spPr>
          <a:xfrm>
            <a:off x="1403280" y="328464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6"/>
          <p:cNvSpPr/>
          <p:nvPr/>
        </p:nvSpPr>
        <p:spPr>
          <a:xfrm>
            <a:off x="1403280" y="407664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44"/>
          <p:cNvGrpSpPr/>
          <p:nvPr/>
        </p:nvGrpSpPr>
        <p:grpSpPr>
          <a:xfrm>
            <a:off x="468360" y="5732640"/>
            <a:ext cx="4608360" cy="666000"/>
            <a:chOff x="468360" y="5732640"/>
            <a:chExt cx="4608360" cy="666000"/>
          </a:xfrm>
        </p:grpSpPr>
        <p:grpSp>
          <p:nvGrpSpPr>
            <p:cNvPr id="260" name="Group 45"/>
            <p:cNvGrpSpPr/>
            <p:nvPr/>
          </p:nvGrpSpPr>
          <p:grpSpPr>
            <a:xfrm>
              <a:off x="468360" y="5732640"/>
              <a:ext cx="761400" cy="666000"/>
              <a:chOff x="468360" y="5732640"/>
              <a:chExt cx="761400" cy="666000"/>
            </a:xfrm>
          </p:grpSpPr>
          <p:sp>
            <p:nvSpPr>
              <p:cNvPr id="261" name="AutoShape 46"/>
              <p:cNvSpPr/>
              <p:nvPr/>
            </p:nvSpPr>
            <p:spPr>
              <a:xfrm>
                <a:off x="474480" y="5743800"/>
                <a:ext cx="755280" cy="654840"/>
              </a:xfrm>
              <a:prstGeom prst="hexagon">
                <a:avLst>
                  <a:gd name="adj" fmla="val 2883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47"/>
              <p:cNvSpPr/>
              <p:nvPr/>
            </p:nvSpPr>
            <p:spPr>
              <a:xfrm>
                <a:off x="468360" y="5732640"/>
                <a:ext cx="755640" cy="654840"/>
              </a:xfrm>
              <a:prstGeom prst="hexagon">
                <a:avLst>
                  <a:gd name="adj" fmla="val 2884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48"/>
              <p:cNvSpPr/>
              <p:nvPr/>
            </p:nvSpPr>
            <p:spPr>
              <a:xfrm>
                <a:off x="512640" y="5771880"/>
                <a:ext cx="663480" cy="576000"/>
              </a:xfrm>
              <a:prstGeom prst="hexagon">
                <a:avLst>
                  <a:gd name="adj" fmla="val 2881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49"/>
            <p:cNvSpPr/>
            <p:nvPr/>
          </p:nvSpPr>
          <p:spPr>
            <a:xfrm>
              <a:off x="1044360" y="631008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50"/>
            <p:cNvSpPr/>
            <p:nvPr/>
          </p:nvSpPr>
          <p:spPr>
            <a:xfrm>
              <a:off x="2097720" y="5783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51"/>
            <p:cNvSpPr/>
            <p:nvPr/>
          </p:nvSpPr>
          <p:spPr>
            <a:xfrm>
              <a:off x="653400" y="578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F60C9-8CE3-42F8-A214-F33357657C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圆角矩形 4"/>
          <p:cNvSpPr/>
          <p:nvPr/>
        </p:nvSpPr>
        <p:spPr>
          <a:xfrm>
            <a:off x="324000" y="2349360"/>
            <a:ext cx="8496000" cy="352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案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-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小时急诊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紫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催吐和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和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4FF2-5745-4712-A09C-8E5A39BFF1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4000" y="90792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体液不足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严重呕吐、腹泻导致体液丢失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呼吸道腺体分泌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有机磷毒物累及中枢神经系统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对有机磷杀虫药毒性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肺水肿、呼吸衰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生命体征稳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密切观察病情和生命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4000" y="98100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低效性呼吸型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百草枯作用于呼吸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肾功能障碍、消化道出血、肝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百草枯中毒及相关急救常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清除胃肠道中毒物的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一氧化碳中毒进行高压氧治疗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2903D-13BC-4640-8E55-CB69E52615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神经、呼吸、消化等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灭鼠剂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线形标注 2 4"/>
          <p:cNvSpPr/>
          <p:nvPr/>
        </p:nvSpPr>
        <p:spPr>
          <a:xfrm>
            <a:off x="4356000" y="2133720"/>
            <a:ext cx="4608720" cy="10792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74157"/>
              <a:gd name="adj6" fmla="val -2003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线形标注 2 5"/>
          <p:cNvSpPr/>
          <p:nvPr/>
        </p:nvSpPr>
        <p:spPr>
          <a:xfrm>
            <a:off x="4284720" y="3500280"/>
            <a:ext cx="4648320" cy="1150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0097"/>
              <a:gd name="adj6" fmla="val -2310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线形标注 2 6"/>
          <p:cNvSpPr/>
          <p:nvPr/>
        </p:nvSpPr>
        <p:spPr>
          <a:xfrm>
            <a:off x="4211640" y="4869000"/>
            <a:ext cx="4753080" cy="1008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46384"/>
              <a:gd name="adj6" fmla="val -234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碳氧血红蛋白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大脑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心输出量减少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心肌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有中毒后迟发性脑病的危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酒精，学名乙醇，是日常生活中各类酒饮料的主要成分，也可用作医用消毒剂、工业原料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中枢神经系统损害、代谢异常、心脏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有机磷杀虫药中毒时，遵医嘱应用胆碱酯酶复能剂的用药观察与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E7BBB-81BF-4AF1-98DF-DBA45064E3E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酒精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酒精对人体毒性的认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休克，窒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密切观察病情变化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镇静催眠药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呼吸抑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4067280" y="6524640"/>
            <a:ext cx="1131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E4A3-285A-4A0E-A8AC-7561F018C7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785600"/>
            <a:ext cx="829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接触眼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吸入强酸、强碱烟雾后致使气道黏膜充血、水肿及浆液性分泌物过多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皮肤完整性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酸、强碱刺激皮肤黏膜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自我形象紊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腐蚀性毒物造成皮肤黏膜损害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焦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担心疾病预后、费用昂贵等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强酸、强碱急救常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线形标注 1 4"/>
          <p:cNvSpPr/>
          <p:nvPr/>
        </p:nvSpPr>
        <p:spPr>
          <a:xfrm>
            <a:off x="3419640" y="1125360"/>
            <a:ext cx="5545080" cy="3672000"/>
          </a:xfrm>
          <a:prstGeom prst="borderCallout1">
            <a:avLst>
              <a:gd name="adj1" fmla="val 18750"/>
              <a:gd name="adj2" fmla="val -8333"/>
              <a:gd name="adj3" fmla="val 46750"/>
              <a:gd name="adj4" fmla="val -1643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线形标注 1 5"/>
          <p:cNvSpPr/>
          <p:nvPr/>
        </p:nvSpPr>
        <p:spPr>
          <a:xfrm>
            <a:off x="2987640" y="2205000"/>
            <a:ext cx="6156360" cy="3960720"/>
          </a:xfrm>
          <a:prstGeom prst="borderCallout1">
            <a:avLst>
              <a:gd name="adj1" fmla="val 18750"/>
              <a:gd name="adj2" fmla="val -8333"/>
              <a:gd name="adj3" fmla="val 34902"/>
              <a:gd name="adj4" fmla="val -1531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4284720" y="6524640"/>
            <a:ext cx="122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C5FD5-9826-44DE-AA8B-BFEF5B950A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1508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现场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跳呼吸骤停者，立即给予现场心肺复苏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5"/>
          <p:cNvSpPr/>
          <p:nvPr/>
        </p:nvSpPr>
        <p:spPr>
          <a:xfrm>
            <a:off x="4427640" y="6524640"/>
            <a:ext cx="9144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60385-A7C5-4A3C-AC6A-B8751D0E62E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 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（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6-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9640" y="2133720"/>
          <a:ext cx="7704360" cy="2666880"/>
        </p:xfrm>
        <a:graphic>
          <a:graphicData uri="http://schemas.openxmlformats.org/drawingml/2006/table">
            <a:tbl>
              <a:tblPr/>
              <a:tblGrid>
                <a:gridCol w="3853080"/>
                <a:gridCol w="3851280"/>
              </a:tblGrid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乙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2484360" y="155736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6-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23:25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